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226-BFAB-4708-A640-49A7E967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834-7F02-4D85-81FB-0B5517A6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CF8-4E2E-4AD0-BFA5-942B2312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5AC-2A0D-4448-A7A3-3A5BC1F3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7015-7A25-48C5-BC44-852F56DF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3DAF-D2B3-4EE7-9DA9-DED521B2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E752-086E-4F4B-A03D-0117748E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96BA-C10D-4D14-A338-FEDD991A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DFBE-8A54-4578-ABD4-0CF7D14C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A92A-63F9-4216-A930-F3B57B98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A42B-5D6B-4FBC-BCEC-7B77D111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B1F8-859F-4814-B2D8-84ADC0CB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CB39-C886-4142-94E9-1BFB599D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BD87-2174-40C1-8C62-3137F86E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DCC6-4D5E-4803-81D2-79EA24AC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0CD1-A484-4409-9848-306103C3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5CEC-275A-4E78-B09E-963BD43B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10B-6495-4C0E-9ABB-5F9298E3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D15-6D2B-4B48-BF6E-0961E949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504-DF4E-4331-ACFA-49D2824B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21B-F7BB-4D63-93EB-6B4B3FCF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493-177D-4EF4-8945-95D61DDA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2BB-A05F-4D74-BEB5-BE88AC57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071-DA50-474E-B030-A7D4FAE8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9C01-6179-46F2-9D01-ACD541233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DE0E-02F4-4C95-BCE3-661B1A2BB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32000" y="4868640"/>
            <a:ext cx="7020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БОУ «Средняя общеобразовательная школа № 7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. Ноябрь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мченко Наталья Сергеев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11280" y="189000"/>
            <a:ext cx="78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Жизнь птиц зимой</a:t>
            </a:r>
            <a:endParaRPr b="1" lang="en-US" sz="4000" spc="1" strike="noStrike">
              <a:ln w="19080">
                <a:solidFill>
                  <a:srgbClr val="cc99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1860840" cy="1871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851280" y="2708280"/>
            <a:ext cx="1863720" cy="1871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516720" y="2060640"/>
            <a:ext cx="1895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Кормушки для птиц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2627280" cy="2492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404640"/>
            <a:ext cx="2016000" cy="1689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093080" y="1484280"/>
            <a:ext cx="2050920" cy="2149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4716360" y="4653000"/>
            <a:ext cx="1727280" cy="180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6588000" y="4365720"/>
            <a:ext cx="2556000" cy="2492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324000" y="2276640"/>
            <a:ext cx="2232000" cy="2004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2627280" y="1557360"/>
            <a:ext cx="2089080" cy="2160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4859280" y="2276640"/>
            <a:ext cx="2160720" cy="201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0"/>
          <a:stretch/>
        </p:blipFill>
        <p:spPr>
          <a:xfrm>
            <a:off x="2843280" y="4653000"/>
            <a:ext cx="1800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0093"/>
                </a:solidFill>
                <a:latin typeface="Times New Roman"/>
              </a:rPr>
              <a:t>ВОРОБЕЙ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6913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0093"/>
                </a:solidFill>
                <a:latin typeface="Times New Roman"/>
              </a:rPr>
              <a:t>СНЕГИРЬ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6" name="Рисунок 3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698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Times New Roman"/>
              </a:rPr>
              <a:t>СИНИЦ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8" name="Изображение 1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6912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Times New Roman"/>
              </a:rPr>
              <a:t>СОРОК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7056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Times New Roman"/>
              </a:rPr>
              <a:t>ГОЛУБЬ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128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0093"/>
                </a:solidFill>
                <a:latin typeface="Times New Roman"/>
              </a:rPr>
              <a:t>ВОРОН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7056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Моему настроению соответствует смайлик 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37560" y="2707920"/>
            <a:ext cx="7783560" cy="2521800"/>
            <a:chOff x="637560" y="2707920"/>
            <a:chExt cx="7783560" cy="2521800"/>
          </a:xfrm>
        </p:grpSpPr>
        <p:sp>
          <p:nvSpPr>
            <p:cNvPr id="167" name=""/>
            <p:cNvSpPr/>
            <p:nvPr/>
          </p:nvSpPr>
          <p:spPr>
            <a:xfrm>
              <a:off x="637560" y="2707920"/>
              <a:ext cx="2303640" cy="2521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17480" y="2707920"/>
              <a:ext cx="2303640" cy="2521800"/>
            </a:xfrm>
            <a:prstGeom prst="smileyFace">
              <a:avLst>
                <a:gd name="adj" fmla="val -465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77520" y="2707920"/>
              <a:ext cx="2303640" cy="2521800"/>
            </a:xfrm>
            <a:prstGeom prst="smileyFace">
              <a:avLst>
                <a:gd name="adj" fmla="val 208"/>
              </a:avLst>
            </a:prstGeom>
            <a:solidFill>
              <a:srgbClr val="00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d60093"/>
                </a:solidFill>
                <a:latin typeface="Monotype Corsiva"/>
              </a:rPr>
              <a:t>Вы молодцы!!!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ctr">
              <a:lnSpc>
                <a:spcPct val="100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d60093"/>
                </a:solidFill>
                <a:latin typeface="Monotype Corsiva"/>
              </a:rPr>
              <a:t>Спасибо!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826920" y="5084640"/>
            <a:ext cx="763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Я желаю тебе сегодня добра.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Если будет трудно, я тебе помогу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Вот ворона сидит на заборе. </a:t>
            </a:r>
            <a:br>
              <a:rPr sz="3200"/>
            </a:b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Все амбары давно на запоре. </a:t>
            </a:r>
            <a:br>
              <a:rPr sz="3200"/>
            </a:b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Все обозы прошли, все подводы, </a:t>
            </a:r>
            <a:br>
              <a:rPr sz="3200"/>
            </a:b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Наступила пора непогоды. </a:t>
            </a:r>
            <a:br>
              <a:rPr sz="3200"/>
            </a:b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Суетится она на заборе — </a:t>
            </a:r>
            <a:br>
              <a:rPr sz="3200"/>
            </a:b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Горе ей, настоящее горе! </a:t>
            </a:r>
            <a:br>
              <a:rPr sz="3200"/>
            </a:b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Ведь ни зернышка нет у вороны </a:t>
            </a:r>
            <a:br>
              <a:rPr sz="3200"/>
            </a:b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И от холода нет обороны.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43640" y="3900600"/>
            <a:ext cx="360036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Зима для животных – </a:t>
            </a:r>
            <a:br>
              <a:rPr sz="4400"/>
            </a:b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                        суровое испыт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3203640" cy="2133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03640" y="4724280"/>
            <a:ext cx="1574640" cy="2133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0" y="1773360"/>
            <a:ext cx="2268360" cy="1368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0" y="3141720"/>
            <a:ext cx="2268360" cy="158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7000920" y="3500280"/>
            <a:ext cx="2143080" cy="1729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2268360" y="1773360"/>
            <a:ext cx="2519640" cy="13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4788000" y="5229360"/>
            <a:ext cx="2232000" cy="1628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7020000" y="5229360"/>
            <a:ext cx="2124000" cy="1628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6948360" y="1773360"/>
            <a:ext cx="2195640" cy="172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2268360" y="3141720"/>
            <a:ext cx="2502000" cy="1582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4788000" y="1773360"/>
            <a:ext cx="216036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4716360" y="3573360"/>
            <a:ext cx="2286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Кто два раза родится: в первый раз гладкий, а второй раз мягкий?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Тема:</a:t>
            </a: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 Жизнь птиц зимо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Где зимуют птицы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Как зимуют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Как выживают в это трудное врем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Чем мы можем помочь им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ПТИЦ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Дикие и домаш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835280" y="5429160"/>
            <a:ext cx="1752480" cy="1428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020000" y="0"/>
            <a:ext cx="2124000" cy="1428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492360" y="1268280"/>
            <a:ext cx="201960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435640" y="5429160"/>
            <a:ext cx="173340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5940360" y="191628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3635280" y="4005360"/>
            <a:ext cx="187344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7000920" y="393372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900000" y="1989000"/>
            <a:ext cx="212112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0" y="3933720"/>
            <a:ext cx="2124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ПТИЦ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Умеют летать и не умею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991200" y="189000"/>
            <a:ext cx="2152800" cy="1428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635280" y="83664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187280" y="1628640"/>
            <a:ext cx="2152800" cy="1428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5867280" y="162864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3924360" y="3789360"/>
            <a:ext cx="1512720" cy="13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3564000" y="5346720"/>
            <a:ext cx="2286000" cy="1511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468360" y="4149720"/>
            <a:ext cx="2519280" cy="158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6372360" y="4149720"/>
            <a:ext cx="25430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ПТИЦ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Перелетные и зимующ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1200240" cy="1428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124000" y="18900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708360" y="1844640"/>
            <a:ext cx="191448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093080" y="4221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4067280" y="400536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2411280" y="5429160"/>
            <a:ext cx="2086200" cy="1428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4932360" y="542916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250920" y="1628640"/>
            <a:ext cx="208764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6732720" y="1700280"/>
            <a:ext cx="2152440" cy="1428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250920" y="4149720"/>
            <a:ext cx="2076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0:33:25Z</dcterms:created>
  <dc:creator>User</dc:creator>
  <dc:description/>
  <dc:language>en-US</dc:language>
  <cp:lastModifiedBy>User</cp:lastModifiedBy>
  <dcterms:modified xsi:type="dcterms:W3CDTF">2013-02-16T08:31:41Z</dcterms:modified>
  <cp:revision>4</cp:revision>
  <dc:subject/>
  <dc:title>Слайд 1</dc:title>
</cp:coreProperties>
</file>