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42D-7C6F-47F0-8339-06F87C9C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8AC-71EA-47E4-A8BC-65D09FFE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A34-E90F-4CA8-8EAB-51CB223D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D22-907B-4549-8696-137AB277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7B5A-C2DF-4E14-8DA1-13075F81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913D-57A4-4F41-95F0-6E6AFAE5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6A0B-278A-480D-9DF7-F67E5D78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9972-5E5E-4AFE-985A-5258ABD9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CE4E-8896-4F98-8B70-C3037553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254C-6BAD-4227-87AD-C04B0C51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2A1C-C67A-4213-B47F-5E674F8D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542-DBE3-4E5D-998E-5C151B15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03DA-A92E-4FDD-8AFB-6273FBE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159B-4F90-4DCB-9DCA-718908E7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400B-4ADD-4510-9220-C5CA1A4A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D691-D3AC-401D-BD92-AC72F679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9B68-105C-4A86-ABC6-F5003932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95E-DD3C-476C-ACC6-96948170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F21-C3D1-4385-A925-9A385E14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6D9-8550-44C7-9EE2-AD954292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483-6E32-4080-BACD-17430BF4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705-5B36-4E98-BBDF-5E420A19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7DE-F72D-401C-A7D3-0D9CA7A0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C0C-571A-4F7F-B328-0A0D91DE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8EA0-0127-4253-A30D-A455D9F73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D101-5511-4376-BAC8-8BF796409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32000" y="4868640"/>
            <a:ext cx="7020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БОУ «Средняя общеобразовательная школа № 7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. Ноябрь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мченко Наталья Сергее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11280" y="189000"/>
            <a:ext cx="78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Жизнь птиц зимой</a:t>
            </a:r>
            <a:endParaRPr b="1" lang="en-US" sz="4000" spc="1" strike="noStrike">
              <a:ln w="19080">
                <a:solidFill>
                  <a:srgbClr val="cc99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186084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51280" y="2708280"/>
            <a:ext cx="1863720" cy="1871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516720" y="2060640"/>
            <a:ext cx="1895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Кормушки для птиц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627280" cy="249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2016000" cy="1689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093080" y="1484280"/>
            <a:ext cx="2050920" cy="2149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716360" y="465300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6588000" y="4365720"/>
            <a:ext cx="2556000" cy="2492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324000" y="2276640"/>
            <a:ext cx="2232000" cy="2004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2627280" y="1557360"/>
            <a:ext cx="2089080" cy="216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4859280" y="227664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2843280" y="4653000"/>
            <a:ext cx="1800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0093"/>
                </a:solidFill>
                <a:latin typeface="Times New Roman"/>
              </a:rPr>
              <a:t>ВОРОБЕЙ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691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0093"/>
                </a:solidFill>
                <a:latin typeface="Times New Roman"/>
              </a:rPr>
              <a:t>СНЕГИРЬ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698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Times New Roman"/>
              </a:rPr>
              <a:t>СИНИЦ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8" name="Изображение 1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6912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Times New Roman"/>
              </a:rPr>
              <a:t>СОРОК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7056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Times New Roman"/>
              </a:rPr>
              <a:t>ГОЛУБЬ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12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Times New Roman"/>
              </a:rPr>
              <a:t>ВОРОН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7056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Моему настроению соответствует смайлик 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37560" y="2707920"/>
            <a:ext cx="7783560" cy="2521800"/>
            <a:chOff x="637560" y="2707920"/>
            <a:chExt cx="7783560" cy="2521800"/>
          </a:xfrm>
        </p:grpSpPr>
        <p:sp>
          <p:nvSpPr>
            <p:cNvPr id="167" name=""/>
            <p:cNvSpPr/>
            <p:nvPr/>
          </p:nvSpPr>
          <p:spPr>
            <a:xfrm>
              <a:off x="637560" y="2707920"/>
              <a:ext cx="2303640" cy="2521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17480" y="2707920"/>
              <a:ext cx="2303640" cy="2521800"/>
            </a:xfrm>
            <a:prstGeom prst="smileyFace">
              <a:avLst>
                <a:gd name="adj" fmla="val -465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77520" y="2707920"/>
              <a:ext cx="2303640" cy="2521800"/>
            </a:xfrm>
            <a:prstGeom prst="smileyFace">
              <a:avLst>
                <a:gd name="adj" fmla="val 208"/>
              </a:avLst>
            </a:prstGeom>
            <a:solidFill>
              <a:srgbClr val="00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d60093"/>
                </a:solidFill>
                <a:latin typeface="Monotype Corsiva"/>
              </a:rPr>
              <a:t>Вы молодцы!!!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d60093"/>
                </a:solidFill>
                <a:latin typeface="Monotype Corsiva"/>
              </a:rPr>
              <a:t>Спасибо!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826920" y="508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Я желаю тебе сегодня добра.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Если будет трудно, я тебе помогу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Вот ворона сидит на заборе.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Все амбары давно на запоре.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Все обозы прошли, все подводы,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Наступила пора непогоды.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Суетится она на заборе —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Горе ей, настоящее горе!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Ведь ни зернышка нет у вороны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И от холода нет обороны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43640" y="3900600"/>
            <a:ext cx="36003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Зима для животных – </a:t>
            </a:r>
            <a:br>
              <a:rPr sz="4400"/>
            </a:b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                        суровое испыт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320364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03640" y="4724280"/>
            <a:ext cx="157464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1773360"/>
            <a:ext cx="2268360" cy="1368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3141720"/>
            <a:ext cx="2268360" cy="158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000920" y="3500280"/>
            <a:ext cx="2143080" cy="1729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2268360" y="1773360"/>
            <a:ext cx="2519640" cy="13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4788000" y="5229360"/>
            <a:ext cx="2232000" cy="1628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020000" y="5229360"/>
            <a:ext cx="2124000" cy="1628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6948360" y="1773360"/>
            <a:ext cx="2195640" cy="172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2268360" y="3141720"/>
            <a:ext cx="2502000" cy="158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4788000" y="1773360"/>
            <a:ext cx="216036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4716360" y="3573360"/>
            <a:ext cx="228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Кто два раза родится: в первый раз гладкий, а второй раз мягкий?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Тема:</a:t>
            </a: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Жизнь птиц зимо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Где зимуют птицы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Как зимуют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Как выживают в это трудное врем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Чем мы можем помочь и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ПТИЦ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Дикие и домаш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835280" y="542916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020000" y="0"/>
            <a:ext cx="212400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492360" y="1268280"/>
            <a:ext cx="201960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435640" y="5429160"/>
            <a:ext cx="173340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5940360" y="191628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3635280" y="4005360"/>
            <a:ext cx="187344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7000920" y="393372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900000" y="1989000"/>
            <a:ext cx="2121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0" y="3933720"/>
            <a:ext cx="2124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ПТИЦ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Умеют летать и не умею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991200" y="189000"/>
            <a:ext cx="215280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635280" y="83664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187280" y="1628640"/>
            <a:ext cx="215280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867280" y="16286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3924360" y="3789360"/>
            <a:ext cx="1512720" cy="13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564000" y="5346720"/>
            <a:ext cx="2286000" cy="151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468360" y="4149720"/>
            <a:ext cx="2519280" cy="158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6372360" y="4149720"/>
            <a:ext cx="25430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ПТИЦ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Перелетные и зимующ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120024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124000" y="18900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708360" y="1844640"/>
            <a:ext cx="191448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93080" y="422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067280" y="40053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2411280" y="5429160"/>
            <a:ext cx="208620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4932360" y="542916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250920" y="1628640"/>
            <a:ext cx="208764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6732720" y="1700280"/>
            <a:ext cx="215244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250920" y="4149720"/>
            <a:ext cx="2076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0:33:25Z</dcterms:created>
  <dc:creator>User</dc:creator>
  <dc:description/>
  <dc:language>en-US</dc:language>
  <cp:lastModifiedBy>User</cp:lastModifiedBy>
  <dcterms:modified xsi:type="dcterms:W3CDTF">2013-02-16T08:31:41Z</dcterms:modified>
  <cp:revision>4</cp:revision>
  <dc:subject/>
  <dc:title>Слайд 1</dc:title>
</cp:coreProperties>
</file>